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916-00DD-4C44-9BB1-1F12B847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E95-6728-4261-94DD-236E5B51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1C3-B37E-4FC2-92A0-9C29349C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BC1-2698-45BA-B08F-29F7BDB5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2F2F5-4BFF-457F-BCD9-2890E42F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197A-6663-45E5-8D54-00FA3F6A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61F53-F086-4A01-B8A1-B2640527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8CC2D-B12A-423B-8D1D-349D2E82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298A7-F5DB-41F2-82A8-0F3A7E63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32333-3B37-45DA-A5C8-8E4ACD37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2B747-2EFC-48EB-8360-878AF30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4A6-F30A-4094-B6A0-EC197A4E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388EE-98E2-44D3-A0C1-7DE7799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44040-3B3D-4699-838F-819EE7F7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5170D-3547-4AB8-9FF2-56609A17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C29B4-6038-4DC8-8F25-C2FA7C20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E97B1-628F-47D5-8CBD-51A6D71D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8D2-DCBE-4467-85F3-16A0A689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619-43EE-4C87-B174-87BE44AF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976-2E09-4337-A24E-211EB65E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50E-1656-4861-A7EC-A6D3BF9D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3A1-FD13-4BC9-8CB2-BBFA65C2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783-0E8A-49AD-A7BB-D59D112D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10A-1BF5-43F3-8C12-6EDA85D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3ADD-5383-4CB6-B1C1-60B4D62AA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506C-0002-4D7A-B0C0-2EE4F3E37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Program%20Files/Microsoft%20Visual%20Studio%20.NET%202003/Vc7/PlatformSDK/samples/winui/Shell/Fakemenu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FP 9.0 Windows Event Hand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ke Stew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Message Que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ssage gets sent for *everything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led by the window’s window proced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ts of messages get sent – written in Fox code, it would bring an app to its kn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y++ is good for examining messages coming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y++ is also handy for checking window hand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Message Que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o 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iWinMsg = WM_Q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-- Do something to end a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iWinMsg = WM_RMOUSEBUT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-- Do something when R m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iWinMsg = WM_P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-- Rep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...}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Lots more Case stat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Message Que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++ exam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fakemenu.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w BINDEVENTS() Function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EVENT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W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Mess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EventHandl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Deleg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Wnd – Window hand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essage – message to inter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EventHandler – object to handle the event/mess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elegate – method to run when message comes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EVENTS(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s 1 as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m to get Windows ev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?AEVENTS(laEvents,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ication switching (no sample avail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ows Themes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management notif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 insertion and rem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k into IDE windo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stom Report Builder right-click me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vea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reful overloading common events with VFP code. WM_MOUSEMOVE should be used with ca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(if not all) IDE windows have child windows that may get the message instead of the window you th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vents may require registration (media change, for examp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8:13:47Z</dcterms:created>
  <dc:creator>Mike Stewart</dc:creator>
  <dc:description/>
  <dc:language>en-US</dc:language>
  <cp:lastModifiedBy>Mike Stewart</cp:lastModifiedBy>
  <dcterms:modified xsi:type="dcterms:W3CDTF">2004-08-10T22:54:17Z</dcterms:modified>
  <cp:revision>5</cp:revision>
  <dc:subject/>
  <dc:title>VFP 9.0 Windows Event Handling</dc:title>
</cp:coreProperties>
</file>